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319F-CC5D-423D-98EF-4395DF49E0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8F24-4E76-46AA-BDF2-762B38BAEE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3438-DD82-4D68-9642-DD7A165933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AB92-EED2-4C5B-9231-5E8419671E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AA2F-7A8A-4938-89B1-97B180011B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04ED-0B11-4B11-BD14-77D900B362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0DED-827C-4723-8BA5-DC5AF169BB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CA4E-7BE8-4725-8A9E-D907FC6E9C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4D2F-72C1-4B87-AEFD-5A4A37BD87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BCF9-0D65-489E-85F6-2606060391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9E2C-F1C5-43D5-B8A7-BB6A846D0E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F09D-42B4-463D-AD0C-13BE27FF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B6FD-8922-4F53-9157-D8849A50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76A1-2559-499E-B869-784FBC50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45A6-4A0B-47F1-B25D-D4A201B8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B6B5-EECD-4893-9AB9-4A89EFBE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19BD-A840-4E5B-B6BD-0476410B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BFE0-E2CD-468B-B0C5-128A929E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C3F8-9484-4BD6-B4DA-AB619CF9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D439-56BE-4228-8B57-942018F1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8C61-126F-4D78-AB8E-738F737F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C39D-3CB3-4FCE-B302-EE9FC87B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01E7-84EF-45B6-9A86-A2DD18A2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56A4-6870-4546-9CB8-0BD2C850D1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6.png"/><Relationship Id="rId3" Type="http://schemas.openxmlformats.org/officeDocument/2006/relationships/slide" Target="slide17.xml"/><Relationship Id="rId4" Type="http://schemas.openxmlformats.org/officeDocument/2006/relationships/image" Target="../media/image7.png"/><Relationship Id="rId5" Type="http://schemas.openxmlformats.org/officeDocument/2006/relationships/slide" Target="slide18.xml"/><Relationship Id="rId6" Type="http://schemas.openxmlformats.org/officeDocument/2006/relationships/image" Target="../media/image8.png"/><Relationship Id="rId7" Type="http://schemas.openxmlformats.org/officeDocument/2006/relationships/slide" Target="slide19.xml"/><Relationship Id="rId8" Type="http://schemas.openxmlformats.org/officeDocument/2006/relationships/image" Target="../media/image9.png"/><Relationship Id="rId9" Type="http://schemas.openxmlformats.org/officeDocument/2006/relationships/slide" Target="slide20.xml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9;&#1084;&#1086;&#1085;&#1072;&#1074;&#1090;" TargetMode="External"/><Relationship Id="rId2" Type="http://schemas.openxmlformats.org/officeDocument/2006/relationships/hyperlink" Target="http://www.online812.ru/2010/04/12/003/pda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2030760" y="500040"/>
            <a:ext cx="515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МСОУ школа № 10 </a:t>
            </a:r>
            <a:r>
              <a:rPr b="1" lang="en-US" sz="2000" spc="-1" strike="noStrike">
                <a:solidFill>
                  <a:srgbClr val="17375e"/>
                </a:solidFill>
                <a:latin typeface="Georgia"/>
              </a:rPr>
              <a:t>VIII</a:t>
            </a: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 ви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города Ступино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2"/>
          <p:cNvSpPr/>
          <p:nvPr/>
        </p:nvSpPr>
        <p:spPr>
          <a:xfrm>
            <a:off x="1285920" y="1857240"/>
            <a:ext cx="6643800" cy="2500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 Black"/>
              </a:rPr>
              <a:t>Викторина «Космическа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4000680" y="52149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Касатина Татьяна Анато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" dur="50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4"/>
          <p:cNvSpPr/>
          <p:nvPr/>
        </p:nvSpPr>
        <p:spPr>
          <a:xfrm>
            <a:off x="878760" y="928800"/>
            <a:ext cx="776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Космонавт, первый  совершивш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выход в открытый космо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Нейл Армстро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алентина Тереш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Юрий Гага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Алексей Ле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193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196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199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202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4"/>
          <p:cNvSpPr/>
          <p:nvPr/>
        </p:nvSpPr>
        <p:spPr>
          <a:xfrm>
            <a:off x="1398240" y="928800"/>
            <a:ext cx="682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Первый полёт Юрия Гагар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дли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20 мин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08 мин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2 су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3 ч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215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218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221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224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0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4"/>
          <p:cNvSpPr/>
          <p:nvPr/>
        </p:nvSpPr>
        <p:spPr>
          <a:xfrm>
            <a:off x="797400" y="1071720"/>
            <a:ext cx="767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Самый  пожилой космонавт Джон Г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совершил свой полёт в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77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2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89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6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237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240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243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246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2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4"/>
          <p:cNvSpPr/>
          <p:nvPr/>
        </p:nvSpPr>
        <p:spPr>
          <a:xfrm>
            <a:off x="1676880" y="714240"/>
            <a:ext cx="609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Валентина Терешк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овершила свой полё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на космическом корабле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Восток – 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Союз – 5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Восток – 8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Восток – 6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259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262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265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268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4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Скругленный прямоугольник 2"/>
          <p:cNvSpPr/>
          <p:nvPr/>
        </p:nvSpPr>
        <p:spPr>
          <a:xfrm>
            <a:off x="1500120" y="1785960"/>
            <a:ext cx="6429600" cy="3000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ffff"/>
                </a:solidFill>
                <a:latin typeface="Arial Black"/>
              </a:rPr>
              <a:t>Финал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500" autoRev="1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51" dur="500" autoRev="1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2" dur="500" autoRev="1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Скругленный прямоугольник 1"/>
          <p:cNvSpPr/>
          <p:nvPr/>
        </p:nvSpPr>
        <p:spPr>
          <a:xfrm>
            <a:off x="2643120" y="642960"/>
            <a:ext cx="4214880" cy="857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Жив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кругленный прямоугольник 6"/>
          <p:cNvSpPr/>
          <p:nvPr/>
        </p:nvSpPr>
        <p:spPr>
          <a:xfrm>
            <a:off x="2643120" y="1643040"/>
            <a:ext cx="4214880" cy="857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Филь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кругленный прямоугольник 7"/>
          <p:cNvSpPr/>
          <p:nvPr/>
        </p:nvSpPr>
        <p:spPr>
          <a:xfrm>
            <a:off x="2643120" y="2643120"/>
            <a:ext cx="4214880" cy="857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рганизм чело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8"/>
          <p:cNvSpPr/>
          <p:nvPr/>
        </p:nvSpPr>
        <p:spPr>
          <a:xfrm>
            <a:off x="2643120" y="3643200"/>
            <a:ext cx="4214880" cy="857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Земные объ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9"/>
          <p:cNvSpPr/>
          <p:nvPr/>
        </p:nvSpPr>
        <p:spPr>
          <a:xfrm>
            <a:off x="2643120" y="4643280"/>
            <a:ext cx="4214880" cy="857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Самый - са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Овал 10"/>
          <p:cNvGrpSpPr/>
          <p:nvPr/>
        </p:nvGrpSpPr>
        <p:grpSpPr>
          <a:xfrm>
            <a:off x="1494000" y="585720"/>
            <a:ext cx="938160" cy="919080"/>
            <a:chOff x="1494000" y="585720"/>
            <a:chExt cx="938160" cy="919080"/>
          </a:xfrm>
        </p:grpSpPr>
        <p:pic>
          <p:nvPicPr>
            <p:cNvPr id="283" name="Овал 10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494000" y="585720"/>
              <a:ext cx="93816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685880" y="75564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Овал 11"/>
          <p:cNvGrpSpPr/>
          <p:nvPr/>
        </p:nvGrpSpPr>
        <p:grpSpPr>
          <a:xfrm>
            <a:off x="1487520" y="1584360"/>
            <a:ext cx="944640" cy="920880"/>
            <a:chOff x="1487520" y="1584360"/>
            <a:chExt cx="944640" cy="920880"/>
          </a:xfrm>
        </p:grpSpPr>
        <p:pic>
          <p:nvPicPr>
            <p:cNvPr id="286" name="Овал 11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1487520" y="1584360"/>
              <a:ext cx="9446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685880" y="1755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Овал 12"/>
          <p:cNvGrpSpPr/>
          <p:nvPr/>
        </p:nvGrpSpPr>
        <p:grpSpPr>
          <a:xfrm>
            <a:off x="1487520" y="2584440"/>
            <a:ext cx="944640" cy="920880"/>
            <a:chOff x="1487520" y="2584440"/>
            <a:chExt cx="944640" cy="920880"/>
          </a:xfrm>
        </p:grpSpPr>
        <p:pic>
          <p:nvPicPr>
            <p:cNvPr id="289" name="Овал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1487520" y="2584440"/>
              <a:ext cx="9446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1685880" y="275580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Овал 13"/>
          <p:cNvGrpSpPr/>
          <p:nvPr/>
        </p:nvGrpSpPr>
        <p:grpSpPr>
          <a:xfrm>
            <a:off x="1481040" y="3584520"/>
            <a:ext cx="957240" cy="920880"/>
            <a:chOff x="1481040" y="3584520"/>
            <a:chExt cx="957240" cy="920880"/>
          </a:xfrm>
        </p:grpSpPr>
        <p:pic>
          <p:nvPicPr>
            <p:cNvPr id="292" name="Овал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1481040" y="358452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1685880" y="375588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Овал 14"/>
          <p:cNvGrpSpPr/>
          <p:nvPr/>
        </p:nvGrpSpPr>
        <p:grpSpPr>
          <a:xfrm>
            <a:off x="1494000" y="4657680"/>
            <a:ext cx="938160" cy="920880"/>
            <a:chOff x="1494000" y="4657680"/>
            <a:chExt cx="938160" cy="920880"/>
          </a:xfrm>
        </p:grpSpPr>
        <p:pic>
          <p:nvPicPr>
            <p:cNvPr id="295" name="Овал 14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1494000" y="4657680"/>
              <a:ext cx="9381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1685880" y="482760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Прямоугольник 16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Овал 17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Georgia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рямоугольник 1">
            <a:hlinkClick r:id="rId1" action="ppaction://hlinksldjump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"/>
          <p:cNvSpPr/>
          <p:nvPr/>
        </p:nvSpPr>
        <p:spPr>
          <a:xfrm>
            <a:off x="428760" y="785880"/>
            <a:ext cx="3000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Какие животные первыми облете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вокру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Лу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3"/>
          <p:cNvSpPr/>
          <p:nvPr/>
        </p:nvSpPr>
        <p:spPr>
          <a:xfrm>
            <a:off x="2643120" y="492912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Черепах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4"/>
          <p:cNvSpPr/>
          <p:nvPr/>
        </p:nvSpPr>
        <p:spPr>
          <a:xfrm>
            <a:off x="3429000" y="5786280"/>
            <a:ext cx="350028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Группа 7"/>
          <p:cNvGrpSpPr/>
          <p:nvPr/>
        </p:nvGrpSpPr>
        <p:grpSpPr>
          <a:xfrm>
            <a:off x="428760" y="5786280"/>
            <a:ext cx="3000240" cy="557280"/>
            <a:chOff x="428760" y="5786280"/>
            <a:chExt cx="3000240" cy="557280"/>
          </a:xfrm>
        </p:grpSpPr>
        <p:sp>
          <p:nvSpPr>
            <p:cNvPr id="304" name="Прямоугольник 5"/>
            <p:cNvSpPr/>
            <p:nvPr/>
          </p:nvSpPr>
          <p:spPr>
            <a:xfrm>
              <a:off x="428760" y="5786280"/>
              <a:ext cx="3000240" cy="5572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Georgia"/>
                </a:rPr>
                <a:t>Цена во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Овал 6"/>
            <p:cNvSpPr/>
            <p:nvPr/>
          </p:nvSpPr>
          <p:spPr>
            <a:xfrm>
              <a:off x="2357640" y="5786280"/>
              <a:ext cx="985680" cy="48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Georgia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6" name="Picture 2" descr="F:\новинка\142.jpg"/>
          <p:cNvPicPr/>
          <p:nvPr/>
        </p:nvPicPr>
        <p:blipFill>
          <a:blip r:embed="rId2"/>
          <a:stretch/>
        </p:blipFill>
        <p:spPr>
          <a:xfrm>
            <a:off x="3514680" y="1000080"/>
            <a:ext cx="4848120" cy="3429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299" dur="indefinite" restart="never" nodeType="tmRoot">
          <p:childTnLst>
            <p:seq>
              <p:cTn id="300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1">
            <a:hlinkClick r:id="rId1" action="ppaction://hlinksldjump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2"/>
          <p:cNvSpPr/>
          <p:nvPr/>
        </p:nvSpPr>
        <p:spPr>
          <a:xfrm>
            <a:off x="500040" y="857160"/>
            <a:ext cx="4000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Какой художественный фильм обязательно смотрят российские космонав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перед полёт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3"/>
          <p:cNvSpPr/>
          <p:nvPr/>
        </p:nvSpPr>
        <p:spPr>
          <a:xfrm>
            <a:off x="1442160" y="5143680"/>
            <a:ext cx="61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«Белое солнце пустын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Группа 5"/>
          <p:cNvGrpSpPr/>
          <p:nvPr/>
        </p:nvGrpSpPr>
        <p:grpSpPr>
          <a:xfrm>
            <a:off x="428760" y="5786280"/>
            <a:ext cx="3000240" cy="557280"/>
            <a:chOff x="428760" y="5786280"/>
            <a:chExt cx="3000240" cy="557280"/>
          </a:xfrm>
        </p:grpSpPr>
        <p:sp>
          <p:nvSpPr>
            <p:cNvPr id="311" name="Прямоугольник 6"/>
            <p:cNvSpPr/>
            <p:nvPr/>
          </p:nvSpPr>
          <p:spPr>
            <a:xfrm>
              <a:off x="428760" y="5786280"/>
              <a:ext cx="3000240" cy="5572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Georgia"/>
                </a:rPr>
                <a:t>Цена во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Овал 7"/>
            <p:cNvSpPr/>
            <p:nvPr/>
          </p:nvSpPr>
          <p:spPr>
            <a:xfrm>
              <a:off x="2357640" y="5786280"/>
              <a:ext cx="985680" cy="48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Georgia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Прямоугольник 8"/>
          <p:cNvSpPr/>
          <p:nvPr/>
        </p:nvSpPr>
        <p:spPr>
          <a:xfrm>
            <a:off x="3429000" y="5786280"/>
            <a:ext cx="350028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F:\новинка\1239767510_1111.jpg"/>
          <p:cNvPicPr/>
          <p:nvPr/>
        </p:nvPicPr>
        <p:blipFill>
          <a:blip r:embed="rId2"/>
          <a:stretch/>
        </p:blipFill>
        <p:spPr>
          <a:xfrm>
            <a:off x="4572000" y="642960"/>
            <a:ext cx="3714840" cy="4495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309" dur="indefinite" restart="never" nodeType="tmRoot">
          <p:childTnLst>
            <p:seq>
              <p:cTn id="310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1">
            <a:hlinkClick r:id="rId1" action="ppaction://hlinksldjump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2"/>
          <p:cNvSpPr/>
          <p:nvPr/>
        </p:nvSpPr>
        <p:spPr>
          <a:xfrm>
            <a:off x="642960" y="71424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В космосе давление влияет на позвоночный столб человека. Что происход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 ростом космонав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3"/>
          <p:cNvSpPr/>
          <p:nvPr/>
        </p:nvSpPr>
        <p:spPr>
          <a:xfrm>
            <a:off x="1059480" y="5000760"/>
            <a:ext cx="72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Рост немного увелич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Группа 4"/>
          <p:cNvGrpSpPr/>
          <p:nvPr/>
        </p:nvGrpSpPr>
        <p:grpSpPr>
          <a:xfrm>
            <a:off x="428760" y="5786280"/>
            <a:ext cx="3000240" cy="557280"/>
            <a:chOff x="428760" y="5786280"/>
            <a:chExt cx="3000240" cy="557280"/>
          </a:xfrm>
        </p:grpSpPr>
        <p:sp>
          <p:nvSpPr>
            <p:cNvPr id="319" name="Прямоугольник 5"/>
            <p:cNvSpPr/>
            <p:nvPr/>
          </p:nvSpPr>
          <p:spPr>
            <a:xfrm>
              <a:off x="428760" y="5786280"/>
              <a:ext cx="3000240" cy="5572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Georgia"/>
                </a:rPr>
                <a:t>Цена во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Овал 6"/>
            <p:cNvSpPr/>
            <p:nvPr/>
          </p:nvSpPr>
          <p:spPr>
            <a:xfrm>
              <a:off x="2357640" y="5786280"/>
              <a:ext cx="985680" cy="48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Georgia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Прямоугольник 7"/>
          <p:cNvSpPr/>
          <p:nvPr/>
        </p:nvSpPr>
        <p:spPr>
          <a:xfrm>
            <a:off x="3429000" y="5786280"/>
            <a:ext cx="350028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Рисунок 8" descr="Интересные факты из жизни космонавтов"/>
          <p:cNvPicPr/>
          <p:nvPr/>
        </p:nvPicPr>
        <p:blipFill>
          <a:blip r:embed="rId2"/>
          <a:stretch/>
        </p:blipFill>
        <p:spPr>
          <a:xfrm>
            <a:off x="5357880" y="642960"/>
            <a:ext cx="3000240" cy="4429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319" dur="indefinite" restart="never" nodeType="tmRoot">
          <p:childTnLst>
            <p:seq>
              <p:cTn id="320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1">
            <a:hlinkClick r:id="rId1" action="ppaction://hlinksldjump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2"/>
          <p:cNvSpPr/>
          <p:nvPr/>
        </p:nvSpPr>
        <p:spPr>
          <a:xfrm>
            <a:off x="500040" y="571680"/>
            <a:ext cx="3286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Какие земные рукотворные объекты видны из космо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3"/>
          <p:cNvSpPr/>
          <p:nvPr/>
        </p:nvSpPr>
        <p:spPr>
          <a:xfrm>
            <a:off x="1564200" y="5000760"/>
            <a:ext cx="56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Египетские пирами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Группа 4"/>
          <p:cNvGrpSpPr/>
          <p:nvPr/>
        </p:nvGrpSpPr>
        <p:grpSpPr>
          <a:xfrm>
            <a:off x="428760" y="5786280"/>
            <a:ext cx="3000240" cy="557280"/>
            <a:chOff x="428760" y="5786280"/>
            <a:chExt cx="3000240" cy="557280"/>
          </a:xfrm>
        </p:grpSpPr>
        <p:sp>
          <p:nvSpPr>
            <p:cNvPr id="327" name="Прямоугольник 5"/>
            <p:cNvSpPr/>
            <p:nvPr/>
          </p:nvSpPr>
          <p:spPr>
            <a:xfrm>
              <a:off x="428760" y="5786280"/>
              <a:ext cx="3000240" cy="5572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Georgia"/>
                </a:rPr>
                <a:t>Цена во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Овал 6"/>
            <p:cNvSpPr/>
            <p:nvPr/>
          </p:nvSpPr>
          <p:spPr>
            <a:xfrm>
              <a:off x="2357640" y="5786280"/>
              <a:ext cx="985680" cy="48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Georgia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Прямоугольник 7"/>
          <p:cNvSpPr/>
          <p:nvPr/>
        </p:nvSpPr>
        <p:spPr>
          <a:xfrm>
            <a:off x="3429000" y="5786280"/>
            <a:ext cx="350028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F:\новинка\piramidi-di-giza-sulla-terra.jpg"/>
          <p:cNvPicPr/>
          <p:nvPr/>
        </p:nvPicPr>
        <p:blipFill>
          <a:blip r:embed="rId2"/>
          <a:srcRect l="1586" t="1980" r="1586" b="2780"/>
          <a:stretch/>
        </p:blipFill>
        <p:spPr>
          <a:xfrm>
            <a:off x="4071960" y="785880"/>
            <a:ext cx="4357800" cy="3429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329" dur="indefinite" restart="never" nodeType="tmRoot">
          <p:childTnLst>
            <p:seq>
              <p:cTn id="330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Скругленный прямоугольник 2"/>
          <p:cNvSpPr/>
          <p:nvPr/>
        </p:nvSpPr>
        <p:spPr>
          <a:xfrm>
            <a:off x="2071800" y="1785960"/>
            <a:ext cx="5000400" cy="3000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ffff"/>
                </a:solidFill>
                <a:latin typeface="Arial Black"/>
              </a:rPr>
              <a:t>1 тур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5" dur="500" autoRev="1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1">
            <a:hlinkClick r:id="rId1" action="ppaction://hlinksldjump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2"/>
          <p:cNvSpPr/>
          <p:nvPr/>
        </p:nvSpPr>
        <p:spPr>
          <a:xfrm>
            <a:off x="642960" y="785880"/>
            <a:ext cx="4286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амый длинный полёт совершил Валерий Поляков. Сколько сут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он длил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3"/>
          <p:cNvSpPr/>
          <p:nvPr/>
        </p:nvSpPr>
        <p:spPr>
          <a:xfrm>
            <a:off x="3570480" y="4929120"/>
            <a:ext cx="240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438 су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Группа 4"/>
          <p:cNvGrpSpPr/>
          <p:nvPr/>
        </p:nvGrpSpPr>
        <p:grpSpPr>
          <a:xfrm>
            <a:off x="428760" y="5786280"/>
            <a:ext cx="3000240" cy="557280"/>
            <a:chOff x="428760" y="5786280"/>
            <a:chExt cx="3000240" cy="557280"/>
          </a:xfrm>
        </p:grpSpPr>
        <p:sp>
          <p:nvSpPr>
            <p:cNvPr id="335" name="Прямоугольник 5"/>
            <p:cNvSpPr/>
            <p:nvPr/>
          </p:nvSpPr>
          <p:spPr>
            <a:xfrm>
              <a:off x="428760" y="5786280"/>
              <a:ext cx="3000240" cy="5572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Georgia"/>
                </a:rPr>
                <a:t>Цена во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Овал 6"/>
            <p:cNvSpPr/>
            <p:nvPr/>
          </p:nvSpPr>
          <p:spPr>
            <a:xfrm>
              <a:off x="2357640" y="5786280"/>
              <a:ext cx="985680" cy="48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Georgia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Прямоугольник 7"/>
          <p:cNvSpPr/>
          <p:nvPr/>
        </p:nvSpPr>
        <p:spPr>
          <a:xfrm>
            <a:off x="3429000" y="5786280"/>
            <a:ext cx="350028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Рисунок 8" descr="Интересные факты из жизни космонавтов"/>
          <p:cNvPicPr/>
          <p:nvPr/>
        </p:nvPicPr>
        <p:blipFill>
          <a:blip r:embed="rId2"/>
          <a:stretch/>
        </p:blipFill>
        <p:spPr>
          <a:xfrm>
            <a:off x="5000760" y="785880"/>
            <a:ext cx="3214440" cy="4143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339" dur="indefinite" restart="never" nodeType="tmRoot">
          <p:childTnLst>
            <p:seq>
              <p:cTn id="340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Скругленный прямоугольник 1"/>
          <p:cNvSpPr/>
          <p:nvPr/>
        </p:nvSpPr>
        <p:spPr>
          <a:xfrm>
            <a:off x="857160" y="1428840"/>
            <a:ext cx="757260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 Black"/>
              </a:rPr>
              <a:t>Поздравляем с победой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54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Скругленный прямоугольник 2"/>
          <p:cNvSpPr/>
          <p:nvPr/>
        </p:nvSpPr>
        <p:spPr>
          <a:xfrm>
            <a:off x="2000160" y="500040"/>
            <a:ext cx="5429520" cy="5716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Использованные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"/>
          <p:cNvSpPr/>
          <p:nvPr/>
        </p:nvSpPr>
        <p:spPr>
          <a:xfrm>
            <a:off x="642960" y="1331280"/>
            <a:ext cx="75722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1"/>
              </a:rPr>
              <a:t>http://ru.wikipedia.org/wiki/%D0%9A%D0%BE%D1%81%D0%BC%D0%BE%D0%BD%D0%B0%D0%B2%D1%8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2"/>
              </a:rPr>
              <a:t>http://www.online812.ru/2010/04/12/003/pda.htm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www.liveinternet.ru/users/madonion2008/post121023581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http://epizodsspace.testpilot.ru/bibl/energia-50/14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http://altocasertano.files.wordpress.com/2010/04/piramidi-di-giza-sulla-terra.jpg?w=510&amp;h=4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http://kinogazeta.ru/uploads/posts/2009-04/1239767510_111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4"/>
          <p:cNvSpPr/>
          <p:nvPr/>
        </p:nvSpPr>
        <p:spPr>
          <a:xfrm>
            <a:off x="2055240" y="1000080"/>
            <a:ext cx="537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Первый  полёт в косм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оверш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Герман Т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Юрий Гага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алентина Тереш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Сергей Корол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59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62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65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68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4"/>
          <p:cNvSpPr/>
          <p:nvPr/>
        </p:nvSpPr>
        <p:spPr>
          <a:xfrm>
            <a:off x="795960" y="1000080"/>
            <a:ext cx="761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Как звали собак, котор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тали первопроходцами космо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Зайк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Жу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Том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Джер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Лёлек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Бол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Белка и Стр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81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84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87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90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4"/>
          <p:cNvSpPr/>
          <p:nvPr/>
        </p:nvSpPr>
        <p:spPr>
          <a:xfrm>
            <a:off x="866160" y="928800"/>
            <a:ext cx="75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колько раз, находясь на орбит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можно наблюдать восхо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1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16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Ни ра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2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103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106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109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112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4"/>
          <p:cNvSpPr/>
          <p:nvPr/>
        </p:nvSpPr>
        <p:spPr>
          <a:xfrm>
            <a:off x="1392480" y="785880"/>
            <a:ext cx="624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амый молодой космонав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Герман Титов соверши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вой полёт 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25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18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31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22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125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128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131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134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4"/>
          <p:cNvSpPr/>
          <p:nvPr/>
        </p:nvSpPr>
        <p:spPr>
          <a:xfrm>
            <a:off x="951840" y="642960"/>
            <a:ext cx="720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колько женщин – космонав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насчитыв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в современном ми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147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150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153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156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Скругленный прямоугольник 2"/>
          <p:cNvSpPr/>
          <p:nvPr/>
        </p:nvSpPr>
        <p:spPr>
          <a:xfrm>
            <a:off x="2071800" y="1785960"/>
            <a:ext cx="5000400" cy="3000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ffff"/>
                </a:solidFill>
                <a:latin typeface="Arial Black"/>
              </a:rPr>
              <a:t>2 тур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autoRev="1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33" dur="500" autoRev="1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4" dur="500" autoRev="1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4"/>
          <p:cNvSpPr/>
          <p:nvPr/>
        </p:nvSpPr>
        <p:spPr>
          <a:xfrm>
            <a:off x="792360" y="1000080"/>
            <a:ext cx="761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Первый американский астронав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овершил свой пол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2 апр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961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9 авгу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960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0 ию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988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 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961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171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174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177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180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8:42:03Z</dcterms:created>
  <dc:creator>Admin</dc:creator>
  <dc:description/>
  <dc:language>en-US</dc:language>
  <cp:lastModifiedBy>Admin</cp:lastModifiedBy>
  <dcterms:modified xsi:type="dcterms:W3CDTF">2011-04-02T18:24:17Z</dcterms:modified>
  <cp:revision>34</cp:revision>
  <dc:subject/>
  <dc:title>Слайд 1</dc:title>
</cp:coreProperties>
</file>