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EC0-EBE2-4B14-9E35-FE6F359CDA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B920-0350-4115-B5CA-E7F860B936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EA78-B499-4079-AA06-8B6662ADCF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FAFD-F926-4DC9-B523-B17B40BCB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C018-402E-4D3A-8BF9-4CA40F8E5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9904-81A2-4FF4-8222-0A25F88A3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F862-01A0-42F0-B4E7-B2C19F247F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8B37-C8E7-4C63-972B-123AF27571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326C-4CAF-4D88-A886-712B1A7DA8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4A66-6E71-4C9E-BFD5-8A5B3CD7E4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11CE-0E01-47FE-9A44-51D6F8F956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D35-3854-4BA6-8B03-C1C53DA5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6A7-D749-40EA-952B-13992DAB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428-9BD9-41DE-AA32-3D11B120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79C-B7D1-4C91-83F8-82578B55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1A2-494F-4985-85EC-DC48DB62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B28-7E5A-4AFC-B570-DE08C150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7DE-C32B-42F2-8863-658EF166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0B1-DC7E-4E23-B7A0-7F090F3C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2BA-906C-4113-9F98-B35A3E4C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8DD-3F7C-4516-BD97-A51A2346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915-F6E4-4F20-8B23-26E2357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760F-EEB0-4B34-BBA2-EDAC82A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605-395C-47C0-8011-A534F6C217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slide" Target="slide17.xml"/><Relationship Id="rId4" Type="http://schemas.openxmlformats.org/officeDocument/2006/relationships/image" Target="../media/image7.png"/><Relationship Id="rId5" Type="http://schemas.openxmlformats.org/officeDocument/2006/relationships/slide" Target="slide18.xml"/><Relationship Id="rId6" Type="http://schemas.openxmlformats.org/officeDocument/2006/relationships/image" Target="../media/image8.png"/><Relationship Id="rId7" Type="http://schemas.openxmlformats.org/officeDocument/2006/relationships/slide" Target="slide19.xml"/><Relationship Id="rId8" Type="http://schemas.openxmlformats.org/officeDocument/2006/relationships/image" Target="../media/image9.png"/><Relationship Id="rId9" Type="http://schemas.openxmlformats.org/officeDocument/2006/relationships/slide" Target="slide20.xm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6;&#1085;&#1072;&#1074;&#1090;" TargetMode="External"/><Relationship Id="rId2" Type="http://schemas.openxmlformats.org/officeDocument/2006/relationships/hyperlink" Target="http://www.online812.ru/2010/04/12/003/pd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2030760" y="500040"/>
            <a:ext cx="51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СОУ школа № 10 </a:t>
            </a:r>
            <a:r>
              <a:rPr b="1" lang="en-US" sz="2000" spc="-1" strike="noStrike">
                <a:solidFill>
                  <a:srgbClr val="17375e"/>
                </a:solidFill>
                <a:latin typeface="Georgia"/>
              </a:rPr>
              <a:t>VIII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города Ступино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2"/>
          <p:cNvSpPr/>
          <p:nvPr/>
        </p:nvSpPr>
        <p:spPr>
          <a:xfrm>
            <a:off x="1285920" y="1857240"/>
            <a:ext cx="6643800" cy="250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Викторина «Космическа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4000680" y="5214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асат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878760" y="928800"/>
            <a:ext cx="776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осмонавт, первый  соверши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ыход в открытый косм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йл Армстр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Алексей Ле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9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9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9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0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4"/>
          <p:cNvSpPr/>
          <p:nvPr/>
        </p:nvSpPr>
        <p:spPr>
          <a:xfrm>
            <a:off x="1398240" y="928800"/>
            <a:ext cx="682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полёт Юрия Гаг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дл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0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8 мин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 ч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1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1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2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2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797400" y="107172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амый  пожилой космонавт Джон Г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овершил свой полёт 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7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2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89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6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3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4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4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4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4"/>
          <p:cNvSpPr/>
          <p:nvPr/>
        </p:nvSpPr>
        <p:spPr>
          <a:xfrm>
            <a:off x="1676880" y="714240"/>
            <a:ext cx="609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алентина Терешк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а свой полё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 космическом корабл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Союз – 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8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«Восток – 6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2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2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2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2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Скругленный прямоугольник 2"/>
          <p:cNvSpPr/>
          <p:nvPr/>
        </p:nvSpPr>
        <p:spPr>
          <a:xfrm>
            <a:off x="1500120" y="1785960"/>
            <a:ext cx="64296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Финал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1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2" dur="500" autoRev="1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1"/>
          <p:cNvSpPr/>
          <p:nvPr/>
        </p:nvSpPr>
        <p:spPr>
          <a:xfrm>
            <a:off x="2643120" y="64296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6"/>
          <p:cNvSpPr/>
          <p:nvPr/>
        </p:nvSpPr>
        <p:spPr>
          <a:xfrm>
            <a:off x="2643120" y="164304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Фи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7"/>
          <p:cNvSpPr/>
          <p:nvPr/>
        </p:nvSpPr>
        <p:spPr>
          <a:xfrm>
            <a:off x="2643120" y="2643120"/>
            <a:ext cx="4214880" cy="8571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рганизм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8"/>
          <p:cNvSpPr/>
          <p:nvPr/>
        </p:nvSpPr>
        <p:spPr>
          <a:xfrm>
            <a:off x="2643120" y="364320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емные 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2643120" y="4643280"/>
            <a:ext cx="421488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амый - са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Овал 10"/>
          <p:cNvGrpSpPr/>
          <p:nvPr/>
        </p:nvGrpSpPr>
        <p:grpSpPr>
          <a:xfrm>
            <a:off x="1494000" y="585720"/>
            <a:ext cx="938160" cy="919080"/>
            <a:chOff x="1494000" y="585720"/>
            <a:chExt cx="938160" cy="919080"/>
          </a:xfrm>
        </p:grpSpPr>
        <p:pic>
          <p:nvPicPr>
            <p:cNvPr id="283" name="Овал 10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494000" y="585720"/>
              <a:ext cx="9381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85880" y="75564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Овал 11"/>
          <p:cNvGrpSpPr/>
          <p:nvPr/>
        </p:nvGrpSpPr>
        <p:grpSpPr>
          <a:xfrm>
            <a:off x="1487520" y="1584360"/>
            <a:ext cx="944640" cy="920880"/>
            <a:chOff x="1487520" y="1584360"/>
            <a:chExt cx="944640" cy="920880"/>
          </a:xfrm>
        </p:grpSpPr>
        <p:pic>
          <p:nvPicPr>
            <p:cNvPr id="286" name="Овал 1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487520" y="158436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685880" y="1755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Овал 12"/>
          <p:cNvGrpSpPr/>
          <p:nvPr/>
        </p:nvGrpSpPr>
        <p:grpSpPr>
          <a:xfrm>
            <a:off x="1487520" y="2584440"/>
            <a:ext cx="944640" cy="920880"/>
            <a:chOff x="1487520" y="2584440"/>
            <a:chExt cx="944640" cy="920880"/>
          </a:xfrm>
        </p:grpSpPr>
        <p:pic>
          <p:nvPicPr>
            <p:cNvPr id="289" name="Овал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487520" y="2584440"/>
              <a:ext cx="9446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685880" y="27558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Овал 13"/>
          <p:cNvGrpSpPr/>
          <p:nvPr/>
        </p:nvGrpSpPr>
        <p:grpSpPr>
          <a:xfrm>
            <a:off x="1481040" y="3584520"/>
            <a:ext cx="957240" cy="920880"/>
            <a:chOff x="1481040" y="3584520"/>
            <a:chExt cx="957240" cy="920880"/>
          </a:xfrm>
        </p:grpSpPr>
        <p:pic>
          <p:nvPicPr>
            <p:cNvPr id="292" name="Овал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481040" y="358452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1685880" y="375588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Овал 14"/>
          <p:cNvGrpSpPr/>
          <p:nvPr/>
        </p:nvGrpSpPr>
        <p:grpSpPr>
          <a:xfrm>
            <a:off x="1494000" y="4657680"/>
            <a:ext cx="938160" cy="920880"/>
            <a:chOff x="1494000" y="4657680"/>
            <a:chExt cx="938160" cy="920880"/>
          </a:xfrm>
        </p:grpSpPr>
        <p:pic>
          <p:nvPicPr>
            <p:cNvPr id="295" name="Овал 14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494000" y="4657680"/>
              <a:ext cx="938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1685880" y="482760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Прямоугольник 16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7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428760" y="785880"/>
            <a:ext cx="300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животные первыми обле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окру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Лу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2643120" y="49291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Черепах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Группа 7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04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Picture 2" descr="F:\новинка\142.jpg"/>
          <p:cNvPicPr/>
          <p:nvPr/>
        </p:nvPicPr>
        <p:blipFill>
          <a:blip r:embed="rId2"/>
          <a:stretch/>
        </p:blipFill>
        <p:spPr>
          <a:xfrm>
            <a:off x="3514680" y="1000080"/>
            <a:ext cx="484812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500040" y="857160"/>
            <a:ext cx="400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ой художественный фильм обязательно смотрят российские космонав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ед полё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"/>
          <p:cNvSpPr/>
          <p:nvPr/>
        </p:nvSpPr>
        <p:spPr>
          <a:xfrm>
            <a:off x="1442160" y="5143680"/>
            <a:ext cx="61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«Белое солнце пусты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Группа 5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1" name="Прямоугольник 6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7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Прямоугольник 8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F:\новинка\1239767510_1111.jpg"/>
          <p:cNvPicPr/>
          <p:nvPr/>
        </p:nvPicPr>
        <p:blipFill>
          <a:blip r:embed="rId2"/>
          <a:stretch/>
        </p:blipFill>
        <p:spPr>
          <a:xfrm>
            <a:off x="4572000" y="642960"/>
            <a:ext cx="3714840" cy="449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642960" y="71424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космосе давление влияет на позвоночный столб человека. Что происх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 ростом космонав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1059480" y="5000760"/>
            <a:ext cx="72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Рост немного увелич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19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357880" y="642960"/>
            <a:ext cx="3000240" cy="44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500040" y="571680"/>
            <a:ext cx="3286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ие земные рукотворные объекты видны из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564200" y="5000760"/>
            <a:ext cx="56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Египетские пирам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27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F:\новинка\piramidi-di-giza-sulla-terra.jpg"/>
          <p:cNvPicPr/>
          <p:nvPr/>
        </p:nvPicPr>
        <p:blipFill>
          <a:blip r:embed="rId2"/>
          <a:srcRect l="1586" t="1980" r="1586" b="2780"/>
          <a:stretch/>
        </p:blipFill>
        <p:spPr>
          <a:xfrm>
            <a:off x="4071960" y="785880"/>
            <a:ext cx="4357800" cy="3429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29" dur="indefinite" restart="never" nodeType="tmRoot">
          <p:childTnLst>
            <p:seq>
              <p:cTn id="33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1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5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>
            <a:hlinkClick r:id="rId1" action="ppaction://hlinksldjump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642960" y="785880"/>
            <a:ext cx="428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длинный полёт совершил Валерий Поляков. Сколько су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он длил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"/>
          <p:cNvSpPr/>
          <p:nvPr/>
        </p:nvSpPr>
        <p:spPr>
          <a:xfrm>
            <a:off x="3570480" y="492912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438 с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4"/>
          <p:cNvGrpSpPr/>
          <p:nvPr/>
        </p:nvGrpSpPr>
        <p:grpSpPr>
          <a:xfrm>
            <a:off x="428760" y="5786280"/>
            <a:ext cx="3000240" cy="557280"/>
            <a:chOff x="428760" y="5786280"/>
            <a:chExt cx="3000240" cy="557280"/>
          </a:xfrm>
        </p:grpSpPr>
        <p:sp>
          <p:nvSpPr>
            <p:cNvPr id="335" name="Прямоугольник 5"/>
            <p:cNvSpPr/>
            <p:nvPr/>
          </p:nvSpPr>
          <p:spPr>
            <a:xfrm>
              <a:off x="428760" y="5786280"/>
              <a:ext cx="3000240" cy="55728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Georgia"/>
                </a:rPr>
                <a:t>Цена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Овал 6"/>
            <p:cNvSpPr/>
            <p:nvPr/>
          </p:nvSpPr>
          <p:spPr>
            <a:xfrm>
              <a:off x="2357640" y="5786280"/>
              <a:ext cx="985680" cy="486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6092"/>
                  </a:solidFill>
                  <a:latin typeface="Georgia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Прямоугольник 7"/>
          <p:cNvSpPr/>
          <p:nvPr/>
        </p:nvSpPr>
        <p:spPr>
          <a:xfrm>
            <a:off x="3429000" y="5786280"/>
            <a:ext cx="350028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8" descr="Интересные факты из жизни космонавтов"/>
          <p:cNvPicPr/>
          <p:nvPr/>
        </p:nvPicPr>
        <p:blipFill>
          <a:blip r:embed="rId2"/>
          <a:stretch/>
        </p:blipFill>
        <p:spPr>
          <a:xfrm>
            <a:off x="5000760" y="785880"/>
            <a:ext cx="3214440" cy="414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339" dur="indefinite" restart="never" nodeType="tmRoot">
          <p:childTnLst>
            <p:seq>
              <p:cTn id="340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Скругленный прямоугольник 1"/>
          <p:cNvSpPr/>
          <p:nvPr/>
        </p:nvSpPr>
        <p:spPr>
          <a:xfrm>
            <a:off x="857160" y="1428840"/>
            <a:ext cx="757260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572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 Black"/>
              </a:rPr>
              <a:t>Поздравляем с победо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2"/>
          <p:cNvSpPr/>
          <p:nvPr/>
        </p:nvSpPr>
        <p:spPr>
          <a:xfrm>
            <a:off x="2000160" y="500040"/>
            <a:ext cx="5429520" cy="571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спользова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"/>
          <p:cNvSpPr/>
          <p:nvPr/>
        </p:nvSpPr>
        <p:spPr>
          <a:xfrm>
            <a:off x="642960" y="1331280"/>
            <a:ext cx="7572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://ru.wikipedia.org/wiki/%D0%9A%D0%BE%D1%81%D0%BC%D0%BE%D0%BD%D0%B0%D0%B2%D1%8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://www.online812.ru/2010/04/12/003/pda.htm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liveinternet.ru/users/madonion2008/post121023581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epizodsspace.testpilot.ru/bibl/energia-50/14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altocasertano.files.wordpress.com/2010/04/piramidi-di-giza-sulla-terra.jpg?w=510&amp;h=4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http://kinogazeta.ru/uploads/posts/2009-04/1239767510_11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2055240" y="1000080"/>
            <a:ext cx="537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 полёт в косм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Герман Т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Юрий Га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алентина Тере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ергей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59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62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65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68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795960" y="1000080"/>
            <a:ext cx="761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Как звали собак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тали первопроходцами косм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Зай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Жу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о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жер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Лёле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о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Белка и Стр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8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8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8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9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866160" y="928800"/>
            <a:ext cx="75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раз, находясь на орби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можно наблюдать восх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6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Ни 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03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06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09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12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"/>
          <p:cNvSpPr/>
          <p:nvPr/>
        </p:nvSpPr>
        <p:spPr>
          <a:xfrm>
            <a:off x="1392480" y="785880"/>
            <a:ext cx="624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амый молодой косм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Герман Титов соверш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вой полёт 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5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18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3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2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25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28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31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34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951840" y="642960"/>
            <a:ext cx="720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колько женщин – космонав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насчит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 современном ми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47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50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53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56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2"/>
          <p:cNvSpPr/>
          <p:nvPr/>
        </p:nvSpPr>
        <p:spPr>
          <a:xfrm>
            <a:off x="2071800" y="1785960"/>
            <a:ext cx="5000400" cy="3000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Arial Black"/>
              </a:rPr>
              <a:t>2 ту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4"/>
          <p:cNvSpPr/>
          <p:nvPr/>
        </p:nvSpPr>
        <p:spPr>
          <a:xfrm>
            <a:off x="792360" y="1000080"/>
            <a:ext cx="761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Первый американский астронав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совершил свой пол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2"/>
          <p:cNvSpPr/>
          <p:nvPr/>
        </p:nvSpPr>
        <p:spPr>
          <a:xfrm>
            <a:off x="150012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2 апр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3"/>
          <p:cNvSpPr/>
          <p:nvPr/>
        </p:nvSpPr>
        <p:spPr>
          <a:xfrm>
            <a:off x="150012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 авгу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5"/>
          <p:cNvSpPr/>
          <p:nvPr/>
        </p:nvSpPr>
        <p:spPr>
          <a:xfrm>
            <a:off x="4643280" y="2643120"/>
            <a:ext cx="285768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0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8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6"/>
          <p:cNvSpPr/>
          <p:nvPr/>
        </p:nvSpPr>
        <p:spPr>
          <a:xfrm>
            <a:off x="4643280" y="4000680"/>
            <a:ext cx="28576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 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Овал 7"/>
          <p:cNvGrpSpPr/>
          <p:nvPr/>
        </p:nvGrpSpPr>
        <p:grpSpPr>
          <a:xfrm>
            <a:off x="457200" y="2730600"/>
            <a:ext cx="1006560" cy="920520"/>
            <a:chOff x="457200" y="2730600"/>
            <a:chExt cx="1006560" cy="920520"/>
          </a:xfrm>
        </p:grpSpPr>
        <p:pic>
          <p:nvPicPr>
            <p:cNvPr id="171" name="Овал 7" descr=""/>
            <p:cNvPicPr/>
            <p:nvPr/>
          </p:nvPicPr>
          <p:blipFill>
            <a:blip r:embed="rId1"/>
            <a:stretch/>
          </p:blipFill>
          <p:spPr>
            <a:xfrm>
              <a:off x="45720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85800" y="28987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Овал 9"/>
          <p:cNvGrpSpPr/>
          <p:nvPr/>
        </p:nvGrpSpPr>
        <p:grpSpPr>
          <a:xfrm>
            <a:off x="457200" y="4084560"/>
            <a:ext cx="1000080" cy="920880"/>
            <a:chOff x="457200" y="4084560"/>
            <a:chExt cx="1000080" cy="920880"/>
          </a:xfrm>
        </p:grpSpPr>
        <p:pic>
          <p:nvPicPr>
            <p:cNvPr id="174" name="Овал 9" descr=""/>
            <p:cNvPicPr/>
            <p:nvPr/>
          </p:nvPicPr>
          <p:blipFill>
            <a:blip r:embed="rId2"/>
            <a:stretch/>
          </p:blipFill>
          <p:spPr>
            <a:xfrm>
              <a:off x="457200" y="4084560"/>
              <a:ext cx="100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5800" y="4255920"/>
              <a:ext cx="555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Овал 10"/>
          <p:cNvGrpSpPr/>
          <p:nvPr/>
        </p:nvGrpSpPr>
        <p:grpSpPr>
          <a:xfrm>
            <a:off x="7601040" y="2730600"/>
            <a:ext cx="1006560" cy="920520"/>
            <a:chOff x="7601040" y="2730600"/>
            <a:chExt cx="1006560" cy="920520"/>
          </a:xfrm>
        </p:grpSpPr>
        <p:pic>
          <p:nvPicPr>
            <p:cNvPr id="177" name="Овал 10" descr=""/>
            <p:cNvPicPr/>
            <p:nvPr/>
          </p:nvPicPr>
          <p:blipFill>
            <a:blip r:embed="rId3"/>
            <a:stretch/>
          </p:blipFill>
          <p:spPr>
            <a:xfrm>
              <a:off x="7601040" y="2730600"/>
              <a:ext cx="100656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831080" y="28987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11"/>
          <p:cNvGrpSpPr/>
          <p:nvPr/>
        </p:nvGrpSpPr>
        <p:grpSpPr>
          <a:xfrm>
            <a:off x="7626240" y="4084560"/>
            <a:ext cx="957240" cy="920880"/>
            <a:chOff x="7626240" y="4084560"/>
            <a:chExt cx="957240" cy="920880"/>
          </a:xfrm>
        </p:grpSpPr>
        <p:pic>
          <p:nvPicPr>
            <p:cNvPr id="180" name="Овал 11" descr=""/>
            <p:cNvPicPr/>
            <p:nvPr/>
          </p:nvPicPr>
          <p:blipFill>
            <a:blip r:embed="rId4"/>
            <a:stretch/>
          </p:blipFill>
          <p:spPr>
            <a:xfrm>
              <a:off x="7626240" y="4084560"/>
              <a:ext cx="9572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831080" y="4255920"/>
              <a:ext cx="555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Georgia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12"/>
          <p:cNvSpPr/>
          <p:nvPr/>
        </p:nvSpPr>
        <p:spPr>
          <a:xfrm>
            <a:off x="428760" y="5786280"/>
            <a:ext cx="300024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Цена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6"/>
          <p:cNvSpPr/>
          <p:nvPr/>
        </p:nvSpPr>
        <p:spPr>
          <a:xfrm>
            <a:off x="342900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X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9">
            <a:hlinkClick r:id="" action="ppaction://hlinkshowjump?jump=nextslide"/>
          </p:cNvPr>
          <p:cNvSpPr/>
          <p:nvPr/>
        </p:nvSpPr>
        <p:spPr>
          <a:xfrm>
            <a:off x="6929280" y="5786280"/>
            <a:ext cx="178596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0"/>
          <p:cNvSpPr/>
          <p:nvPr/>
        </p:nvSpPr>
        <p:spPr>
          <a:xfrm>
            <a:off x="5143680" y="5786280"/>
            <a:ext cx="1785600" cy="557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21"/>
          <p:cNvSpPr/>
          <p:nvPr/>
        </p:nvSpPr>
        <p:spPr>
          <a:xfrm>
            <a:off x="2357280" y="5786280"/>
            <a:ext cx="986040" cy="4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Georgi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8:42:03Z</dcterms:created>
  <dc:creator>Admin</dc:creator>
  <dc:description/>
  <dc:language>en-US</dc:language>
  <cp:lastModifiedBy>Admin</cp:lastModifiedBy>
  <dcterms:modified xsi:type="dcterms:W3CDTF">2011-04-02T18:24:17Z</dcterms:modified>
  <cp:revision>34</cp:revision>
  <dc:subject/>
  <dc:title>Слайд 1</dc:title>
</cp:coreProperties>
</file>