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736-473B-4580-9B2B-0D23C40F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63C-E43C-4DC7-A0C8-3307047C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9B6-262F-49E4-AADE-CB23C86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007-0924-4FAA-96DA-B7BAA38E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CC95-393D-4801-AA40-AF19B0FB0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1990-D1FE-4EFB-9DC9-3CE42F1F80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EB0A7-DDBF-4876-9E52-4DE21C489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89FF7-52E8-43C1-938C-1EB135BDE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5FD30-0A18-4B1E-BFE0-EAC753F3D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F116-48C3-435A-B5A8-4512571C24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EC713-728C-41F5-A456-51FEFF713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A58-F05D-4ED4-B49E-2FB3180B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101B1-446F-46CB-8517-7CC3E2D0B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C49FD-3BF4-447F-8A00-6B4F9FAFE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AA5B-B005-4BFC-90DF-B32561B8AD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9F38-F8C0-45AC-89BC-F43493128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6D544-6CD3-4CF6-89CF-309204720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119-0FB3-47F5-A11B-4AA9492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8CF-051C-42CC-B734-8E8AAC2B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A0C-03B3-4ED3-A0A6-91FE163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9F9-8D75-4EB3-AA0E-D91A4831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180-B372-4DB8-BD76-6222595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900-DA89-4342-9451-898DFB7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AE3-353C-4A8A-BD82-5910A8D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3B4-31B6-489C-87C4-853EC4F225CC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376-BFF6-46FB-805E-FF0384C6D94B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476360" y="3141720"/>
            <a:ext cx="6262560" cy="14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 Antiqua"/>
              </a:rPr>
              <a:t>ДРУЖБА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 Antiqua"/>
              <a:ea typeface="Book Antiqua"/>
            </a:endParaRPr>
          </a:p>
        </p:txBody>
      </p:sp>
      <p:pic>
        <p:nvPicPr>
          <p:cNvPr id="81" name="Picture 7" descr="SDC10473"/>
          <p:cNvPicPr/>
          <p:nvPr/>
        </p:nvPicPr>
        <p:blipFill>
          <a:blip r:embed="rId4"/>
          <a:stretch/>
        </p:blipFill>
        <p:spPr>
          <a:xfrm>
            <a:off x="5867280" y="443700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SDC10466"/>
          <p:cNvPicPr/>
          <p:nvPr/>
        </p:nvPicPr>
        <p:blipFill>
          <a:blip r:embed="rId5"/>
          <a:stretch/>
        </p:blipFill>
        <p:spPr>
          <a:xfrm>
            <a:off x="179280" y="138240"/>
            <a:ext cx="4321440" cy="2930400"/>
          </a:xfrm>
          <a:prstGeom prst="rect">
            <a:avLst/>
          </a:prstGeom>
          <a:ln w="0">
            <a:noFill/>
          </a:ln>
        </p:spPr>
      </p:pic>
      <p:pic>
        <p:nvPicPr>
          <p:cNvPr id="83" name="дорога добра.mp3" descr=""/>
          <p:cNvPicPr/>
          <p:nvPr/>
        </p:nvPicPr>
        <p:blipFill>
          <a:blip r:embed="rId6"/>
          <a:stretch/>
        </p:blipFill>
        <p:spPr>
          <a:xfrm>
            <a:off x="25092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DC10457"/>
          <p:cNvPicPr/>
          <p:nvPr/>
        </p:nvPicPr>
        <p:blipFill>
          <a:blip r:embed="rId7"/>
          <a:stretch/>
        </p:blipFill>
        <p:spPr>
          <a:xfrm>
            <a:off x="5148360" y="1890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DC10475"/>
          <p:cNvPicPr/>
          <p:nvPr/>
        </p:nvPicPr>
        <p:blipFill>
          <a:blip r:embed="rId8"/>
          <a:stretch/>
        </p:blipFill>
        <p:spPr>
          <a:xfrm>
            <a:off x="0" y="4670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795040" y="4646520"/>
            <a:ext cx="317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3 « В » класс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МОУ СОШ №18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г. Братска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Rockwell Extra Bold"/>
              </a:rPr>
              <a:t>ПРЕДСТАВЛЯЕТ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51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0ca7cbbe86b"/>
          <p:cNvPicPr/>
          <p:nvPr/>
        </p:nvPicPr>
        <p:blipFill>
          <a:blip r:embed="rId1"/>
          <a:stretch/>
        </p:blipFill>
        <p:spPr>
          <a:xfrm>
            <a:off x="5724360" y="4325760"/>
            <a:ext cx="3419640" cy="25322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900000" y="18900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32000" y="429264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Презентацию подготовила : 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ОУ « СОШ № 18 » г. Братска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айорова Н.Ю.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19" name="Picture 14" descr="2232584"/>
          <p:cNvPicPr/>
          <p:nvPr/>
        </p:nvPicPr>
        <p:blipFill>
          <a:blip r:embed="rId2"/>
          <a:stretch/>
        </p:blipFill>
        <p:spPr>
          <a:xfrm>
            <a:off x="277164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My_zhelaem_schastja.mp3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9841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435880" cy="600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ДРУЖБА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близкие отношения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снованные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на взаимном доверии,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 привязанности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бщности интересов.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malch63"/>
          <p:cNvPicPr/>
          <p:nvPr/>
        </p:nvPicPr>
        <p:blipFill>
          <a:blip r:embed="rId1"/>
          <a:stretch/>
        </p:blipFill>
        <p:spPr>
          <a:xfrm>
            <a:off x="6568920" y="3882960"/>
            <a:ext cx="2575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9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7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Times New Roman"/>
              </a:rPr>
              <a:t>Товарищество и Дружба</a:t>
            </a:r>
            <a:r>
              <a:rPr b="1" i="1" lang="ru-RU" sz="4800" spc="-1" strike="noStrike">
                <a:solidFill>
                  <a:srgbClr val="990099"/>
                </a:solidFill>
                <a:latin typeface="Times New Roman"/>
              </a:rPr>
              <a:t> -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дивительные отношения, возникающие между людьми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1" name="Picture 6" descr="SDC10463"/>
          <p:cNvPicPr/>
          <p:nvPr/>
        </p:nvPicPr>
        <p:blipFill>
          <a:blip r:embed="rId1"/>
          <a:stretch/>
        </p:blipFill>
        <p:spPr>
          <a:xfrm>
            <a:off x="250920" y="3573360"/>
            <a:ext cx="4086000" cy="306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DC10464"/>
          <p:cNvPicPr/>
          <p:nvPr/>
        </p:nvPicPr>
        <p:blipFill>
          <a:blip r:embed="rId2"/>
          <a:stretch/>
        </p:blipFill>
        <p:spPr>
          <a:xfrm>
            <a:off x="4932360" y="357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187280" y="189000"/>
            <a:ext cx="6769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99"/>
                </a:solidFill>
                <a:latin typeface="Times New Roman"/>
              </a:rPr>
              <a:t>9 июня -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международный день друзей!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4" name="Picture 6" descr="SDC10485"/>
          <p:cNvPicPr/>
          <p:nvPr/>
        </p:nvPicPr>
        <p:blipFill>
          <a:blip r:embed="rId1"/>
          <a:stretch/>
        </p:blipFill>
        <p:spPr>
          <a:xfrm>
            <a:off x="2268360" y="2978280"/>
            <a:ext cx="4859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1844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Настоящие друзья способны помочь  бескорыстно, не требуя ничего взамен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47200" y="3429000"/>
            <a:ext cx="834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икакое  общение  между  людьми  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е  возможно   без  дружбы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                               </a:t>
            </a: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Сократ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7" name="Picture 8" descr="SDC10480"/>
          <p:cNvPicPr/>
          <p:nvPr/>
        </p:nvPicPr>
        <p:blipFill>
          <a:blip r:embed="rId1"/>
          <a:stretch/>
        </p:blipFill>
        <p:spPr>
          <a:xfrm>
            <a:off x="324000" y="4581360"/>
            <a:ext cx="271764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99cc00"/>
                </a:solidFill>
                <a:latin typeface="Times New Roman"/>
              </a:rPr>
              <a:t>ПОСЛОВИЦЫ О ДРУЖБ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а – как стекло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: разобьёшь - не сложишь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ы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лучше новых двух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жи мне, кто твой друг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я скажу, кто т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 познаётся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в бед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 друга – ищ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найдёшь – берег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есте тесно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врозь скуч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й сто рублей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имей сто друзей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ил св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когда друга 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– отрада для душ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у помн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злобу забывай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 другом и в горе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в горе и в рад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руг поддакива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 друг спроси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0" name="Picture 18" descr="SDC10474"/>
          <p:cNvPicPr/>
          <p:nvPr/>
        </p:nvPicPr>
        <p:blipFill>
          <a:blip r:embed="rId1"/>
          <a:stretch/>
        </p:blipFill>
        <p:spPr>
          <a:xfrm>
            <a:off x="7236000" y="2852640"/>
            <a:ext cx="190800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SDC10479"/>
          <p:cNvPicPr/>
          <p:nvPr/>
        </p:nvPicPr>
        <p:blipFill>
          <a:blip r:embed="rId2"/>
          <a:stretch/>
        </p:blipFill>
        <p:spPr>
          <a:xfrm>
            <a:off x="179280" y="407664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"/>
          <p:cNvSpPr/>
          <p:nvPr/>
        </p:nvSpPr>
        <p:spPr>
          <a:xfrm>
            <a:off x="0" y="0"/>
            <a:ext cx="9048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брый , вежливый, честный, щедр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нимательный, заботливый, предан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умеющий хранить секреты, отзывчив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сливый, жадный, хорошо учится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любезный, терпеливый, богат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верчивый, весёлый, ленивый, строги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общительный, бескорыст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долюбивый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03" name="Picture 12" descr="SDC10478"/>
          <p:cNvPicPr/>
          <p:nvPr/>
        </p:nvPicPr>
        <p:blipFill>
          <a:blip r:embed="rId1"/>
          <a:stretch/>
        </p:blipFill>
        <p:spPr>
          <a:xfrm>
            <a:off x="6300720" y="4508640"/>
            <a:ext cx="2843280" cy="214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SDC10471"/>
          <p:cNvPicPr/>
          <p:nvPr/>
        </p:nvPicPr>
        <p:blipFill>
          <a:blip r:embed="rId2"/>
          <a:stretch/>
        </p:blipFill>
        <p:spPr>
          <a:xfrm>
            <a:off x="0" y="46972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33"/>
                </a:solidFill>
                <a:latin typeface="Times New Roman"/>
              </a:rPr>
              <a:t>Правила дружбы 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могай другу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если умеешь что-то делать, научи и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его; если он попал в беду, помоги ему, чем можешь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елись с друзьями :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у тебя есть интересные вещи, поделись с другими ребятами, у которых их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танови друга, если он делает что – то плохо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орошо дружить – значит говорить друг другу только правду;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друг в чём – то по отношению к тебе не прав, скажи ему об этом – не тая зла на нег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Умей принять помощь, советы и замечания других ребят.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Picture 4" descr="SDC10461"/>
          <p:cNvPicPr/>
          <p:nvPr/>
        </p:nvPicPr>
        <p:blipFill>
          <a:blip r:embed="rId1"/>
          <a:stretch/>
        </p:blipFill>
        <p:spPr>
          <a:xfrm>
            <a:off x="0" y="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DC10483"/>
          <p:cNvPicPr/>
          <p:nvPr/>
        </p:nvPicPr>
        <p:blipFill>
          <a:blip r:embed="rId2"/>
          <a:stretch/>
        </p:blipFill>
        <p:spPr>
          <a:xfrm>
            <a:off x="7191360" y="0"/>
            <a:ext cx="195264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DC10484"/>
          <p:cNvPicPr/>
          <p:nvPr/>
        </p:nvPicPr>
        <p:blipFill>
          <a:blip r:embed="rId3"/>
          <a:stretch/>
        </p:blipFill>
        <p:spPr>
          <a:xfrm>
            <a:off x="5724360" y="55069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DC10486"/>
          <p:cNvPicPr/>
          <p:nvPr/>
        </p:nvPicPr>
        <p:blipFill>
          <a:blip r:embed="rId4"/>
          <a:stretch/>
        </p:blipFill>
        <p:spPr>
          <a:xfrm>
            <a:off x="1187280" y="5468760"/>
            <a:ext cx="18529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476360" y="404640"/>
            <a:ext cx="577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НЕОБЫЧНАЯ ДРУЖБ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2" name="Picture 5" descr="monkeypigPHTSHT1309_468x325"/>
          <p:cNvPicPr/>
          <p:nvPr/>
        </p:nvPicPr>
        <p:blipFill>
          <a:blip r:embed="rId1"/>
          <a:stretch/>
        </p:blipFill>
        <p:spPr>
          <a:xfrm>
            <a:off x="539640" y="1197000"/>
            <a:ext cx="3672000" cy="2541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3" name="Picture 6" descr="1174935822_byak23"/>
          <p:cNvPicPr/>
          <p:nvPr/>
        </p:nvPicPr>
        <p:blipFill>
          <a:blip r:embed="rId2"/>
          <a:stretch/>
        </p:blipFill>
        <p:spPr>
          <a:xfrm>
            <a:off x="4788000" y="1341360"/>
            <a:ext cx="3889440" cy="259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4" name="Picture 7" descr="1183139064_1"/>
          <p:cNvPicPr/>
          <p:nvPr/>
        </p:nvPicPr>
        <p:blipFill>
          <a:blip r:embed="rId3"/>
          <a:stretch/>
        </p:blipFill>
        <p:spPr>
          <a:xfrm>
            <a:off x="468360" y="4076640"/>
            <a:ext cx="3743280" cy="2498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5" name="Picture 8" descr="1204388894_11"/>
          <p:cNvPicPr/>
          <p:nvPr/>
        </p:nvPicPr>
        <p:blipFill>
          <a:blip r:embed="rId4"/>
          <a:stretch/>
        </p:blipFill>
        <p:spPr>
          <a:xfrm>
            <a:off x="4572000" y="4149720"/>
            <a:ext cx="4248000" cy="2409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3:45:49Z</dcterms:created>
  <dc:creator>Учитель</dc:creator>
  <dc:description/>
  <cp:keywords/>
  <dc:language>en-US</dc:language>
  <cp:lastModifiedBy>Admin</cp:lastModifiedBy>
  <dcterms:modified xsi:type="dcterms:W3CDTF">2011-03-13T03:25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