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chimes.wav" ContentType="audio/x-wav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2BB6-273A-4A8C-B50D-3633DE0A09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D889-46C5-4F08-8DBF-D9227FBB46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95B1-8FA3-4F69-8046-E82CF623A5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2506-3B5B-43CB-B133-A99527A56B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0A14-44FF-43EE-B74D-77E32717C3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B6DB-0A6F-4627-A2C1-70CE2A8E0E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A95-F780-49D7-A62A-B3A5FE84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061-2504-478F-A556-374CD9C1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ADC-1908-4A85-8594-DCD5AC37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7EF-BC51-4A8B-9180-7DD8134F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D45-58B6-403E-88AF-51D6C312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D0F-1606-40EE-BCEC-643744CF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BA8-0C8E-4018-8A7B-A0B0BE62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40A-C89F-4B74-9A62-DD002C4F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FC3-A202-4E90-B45E-CF672D89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E57-D3EC-4ED3-B163-5CBBAEE8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AFB-3998-4701-9F6F-1F3C7BA5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D73-9E2A-4D9B-B8C5-FCEC6108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1EC4-30DA-4F4E-91E8-33724937C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8.png"/><Relationship Id="rId4" Type="http://schemas.openxmlformats.org/officeDocument/2006/relationships/image" Target="../media/image8.png"/><Relationship Id="rId5" Type="http://schemas.openxmlformats.org/officeDocument/2006/relationships/image" Target="../media/image19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hyperlink" Target="http://i073.radikal.ru/1009/08/2457bc036357.jpg" TargetMode="External"/><Relationship Id="rId4" Type="http://schemas.openxmlformats.org/officeDocument/2006/relationships/hyperlink" Target="http://i073.radikal.ru/1009/08/2457bc036357.jpg" TargetMode="External"/><Relationship Id="rId5" Type="http://schemas.openxmlformats.org/officeDocument/2006/relationships/hyperlink" Target="http://i073.radikal.ru/1009/08/2457bc036357.jpg" TargetMode="External"/><Relationship Id="rId6" Type="http://schemas.openxmlformats.org/officeDocument/2006/relationships/hyperlink" Target="http://www.stihi.ru/pics/2012/11/18/4325.jpg" TargetMode="External"/><Relationship Id="rId7" Type="http://schemas.openxmlformats.org/officeDocument/2006/relationships/hyperlink" Target="http://www.stihi.ru/pics/2012/11/18/4325.jpg" TargetMode="External"/><Relationship Id="rId8" Type="http://schemas.openxmlformats.org/officeDocument/2006/relationships/hyperlink" Target="http://www.interfotki.ru/content/photo/13/86/138616/xuzcai_cont.jpg" TargetMode="External"/><Relationship Id="rId9" Type="http://schemas.openxmlformats.org/officeDocument/2006/relationships/hyperlink" Target="http://www.interfotki.ru/content/photo/13/86/138616/xuzcai_cont.jpg" TargetMode="External"/><Relationship Id="rId10" Type="http://schemas.openxmlformats.org/officeDocument/2006/relationships/hyperlink" Target="http://vitaest-s.ru/wp-content/uploads/2012/07/Lozhnyie-gribyi12.jpg" TargetMode="External"/><Relationship Id="rId11" Type="http://schemas.openxmlformats.org/officeDocument/2006/relationships/hyperlink" Target="http://vitaest-s.ru/wp-content/uploads/2012/07/Lozhnyie-gribyi12.jpg" TargetMode="External"/><Relationship Id="rId12" Type="http://schemas.openxmlformats.org/officeDocument/2006/relationships/hyperlink" Target="http://s019.radikal.ru/i622/1206/0a/ce7483021053.jpg" TargetMode="External"/><Relationship Id="rId13" Type="http://schemas.openxmlformats.org/officeDocument/2006/relationships/hyperlink" Target="http://s019.radikal.ru/i622/1206/0a/ce7483021053.jpg" TargetMode="External"/><Relationship Id="rId14" Type="http://schemas.openxmlformats.org/officeDocument/2006/relationships/hyperlink" Target="http://metod-sunduchok.ucoz.ru/_ld/1/37100950.gif" TargetMode="External"/><Relationship Id="rId15" Type="http://schemas.openxmlformats.org/officeDocument/2006/relationships/hyperlink" Target="http://metod-sunduchok.ucoz.ru/_ld/1/37100950.gif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692280"/>
            <a:ext cx="5112000" cy="17287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8eb4e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Интерактивный кроссворд</a:t>
            </a:r>
            <a:br>
              <a:rPr sz="4000"/>
            </a:b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«Съедобные гриб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3280" y="4508280"/>
            <a:ext cx="45687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Автор- Костенко Н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учитель начальных класс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Б - Неклиновской СОШ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Ростов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Управляющая кнопка: сведения 5"/>
          <p:cNvGrpSpPr/>
          <p:nvPr/>
        </p:nvGrpSpPr>
        <p:grpSpPr>
          <a:xfrm>
            <a:off x="695160" y="6138720"/>
            <a:ext cx="981360" cy="658800"/>
            <a:chOff x="695160" y="6138720"/>
            <a:chExt cx="981360" cy="658800"/>
          </a:xfrm>
        </p:grpSpPr>
        <p:pic>
          <p:nvPicPr>
            <p:cNvPr id="51" name="Управляющая кнопка: сведения 5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695160" y="6138720"/>
              <a:ext cx="98136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55640" y="6176880"/>
              <a:ext cx="8636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Управляющая кнопка: далее 2"/>
          <p:cNvGrpSpPr/>
          <p:nvPr/>
        </p:nvGrpSpPr>
        <p:grpSpPr>
          <a:xfrm>
            <a:off x="6602400" y="6138720"/>
            <a:ext cx="974880" cy="627120"/>
            <a:chOff x="6602400" y="6138720"/>
            <a:chExt cx="974880" cy="627120"/>
          </a:xfrm>
        </p:grpSpPr>
        <p:pic>
          <p:nvPicPr>
            <p:cNvPr id="54" name="Управляющая кнопка: далее 2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602400" y="6138720"/>
              <a:ext cx="97488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659640" y="617544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52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Управляющая кнопка: далее 6"/>
          <p:cNvGrpSpPr/>
          <p:nvPr/>
        </p:nvGrpSpPr>
        <p:grpSpPr>
          <a:xfrm>
            <a:off x="6669000" y="5694480"/>
            <a:ext cx="981000" cy="633240"/>
            <a:chOff x="6669000" y="5694480"/>
            <a:chExt cx="981000" cy="633240"/>
          </a:xfrm>
        </p:grpSpPr>
        <p:pic>
          <p:nvPicPr>
            <p:cNvPr id="58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6669000" y="5694480"/>
              <a:ext cx="9810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32720" y="5732640"/>
              <a:ext cx="8636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Рисунок 4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2436840" cy="2592360"/>
          </a:xfrm>
          <a:prstGeom prst="rect">
            <a:avLst/>
          </a:prstGeom>
          <a:ln w="0">
            <a:noFill/>
          </a:ln>
        </p:spPr>
      </p:pic>
      <p:sp>
        <p:nvSpPr>
          <p:cNvPr id="61" name="Скругленная прямоугольная выноска 7"/>
          <p:cNvSpPr/>
          <p:nvPr/>
        </p:nvSpPr>
        <p:spPr>
          <a:xfrm>
            <a:off x="3924360" y="1197000"/>
            <a:ext cx="4464000" cy="3024000"/>
          </a:xfrm>
          <a:prstGeom prst="wedgeRoundRectCallout">
            <a:avLst>
              <a:gd name="adj1" fmla="val -95212"/>
              <a:gd name="adj2" fmla="val 10671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дравствуйте, ребят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Я - Старичок-Лесовичок. Сегодня я хочу проверить, как вы знаете съедобные грибы. Давайте разгадаем с вами кроссвор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5"/>
          <p:cNvSpPr/>
          <p:nvPr/>
        </p:nvSpPr>
        <p:spPr>
          <a:xfrm>
            <a:off x="791352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0"/>
          <p:cNvSpPr/>
          <p:nvPr/>
        </p:nvSpPr>
        <p:spPr>
          <a:xfrm>
            <a:off x="7913520" y="136512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9"/>
          <p:cNvSpPr/>
          <p:nvPr/>
        </p:nvSpPr>
        <p:spPr>
          <a:xfrm>
            <a:off x="414972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33"/>
          <p:cNvSpPr/>
          <p:nvPr/>
        </p:nvSpPr>
        <p:spPr>
          <a:xfrm>
            <a:off x="4560840" y="491184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9"/>
          <p:cNvSpPr/>
          <p:nvPr/>
        </p:nvSpPr>
        <p:spPr>
          <a:xfrm>
            <a:off x="623556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Блок-схема: альтернативный процесс 1"/>
          <p:cNvSpPr/>
          <p:nvPr/>
        </p:nvSpPr>
        <p:spPr>
          <a:xfrm>
            <a:off x="484200" y="620640"/>
            <a:ext cx="514332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н в красной шапочке рас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реди корней осиновых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Его узнаешь за верст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овется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право 2"/>
          <p:cNvSpPr/>
          <p:nvPr/>
        </p:nvSpPr>
        <p:spPr>
          <a:xfrm>
            <a:off x="3056040" y="3282840"/>
            <a:ext cx="522360" cy="26352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065400" y="29415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Управляющая кнопка: далее 8"/>
          <p:cNvGrpSpPr/>
          <p:nvPr/>
        </p:nvGrpSpPr>
        <p:grpSpPr>
          <a:xfrm>
            <a:off x="6778800" y="5962680"/>
            <a:ext cx="938160" cy="627120"/>
            <a:chOff x="6778800" y="5962680"/>
            <a:chExt cx="938160" cy="627120"/>
          </a:xfrm>
        </p:grpSpPr>
        <p:pic>
          <p:nvPicPr>
            <p:cNvPr id="98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6778800" y="5962680"/>
              <a:ext cx="9381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837480" y="5997600"/>
              <a:ext cx="8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" name="Рисунок 6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2449440" cy="2519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"/>
          <p:cNvPicPr/>
          <p:nvPr/>
        </p:nvPicPr>
        <p:blipFill>
          <a:blip r:embed="rId4"/>
          <a:stretch/>
        </p:blipFill>
        <p:spPr>
          <a:xfrm>
            <a:off x="484200" y="514440"/>
            <a:ext cx="356868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500"/>
                            </p:stCondLst>
                            <p:childTnLst>
                              <p:par>
                                <p:cTn id="5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5"/>
          <p:cNvSpPr/>
          <p:nvPr/>
        </p:nvSpPr>
        <p:spPr>
          <a:xfrm>
            <a:off x="791352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0"/>
          <p:cNvSpPr/>
          <p:nvPr/>
        </p:nvSpPr>
        <p:spPr>
          <a:xfrm>
            <a:off x="7913520" y="136512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6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9"/>
          <p:cNvSpPr/>
          <p:nvPr/>
        </p:nvSpPr>
        <p:spPr>
          <a:xfrm>
            <a:off x="623556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Блок-схема: альтернативный процесс 1"/>
          <p:cNvSpPr/>
          <p:nvPr/>
        </p:nvSpPr>
        <p:spPr>
          <a:xfrm>
            <a:off x="406440" y="620640"/>
            <a:ext cx="5408640" cy="160992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тот гриб живет под елью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од ее огромной тен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удрый бородач-стари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Житель бора -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197240" y="227808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3"/>
          <a:stretch/>
        </p:blipFill>
        <p:spPr>
          <a:xfrm>
            <a:off x="388800" y="484200"/>
            <a:ext cx="3532320" cy="2308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3940200" y="2278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Управляющая кнопка: далее 4"/>
          <p:cNvGrpSpPr/>
          <p:nvPr/>
        </p:nvGrpSpPr>
        <p:grpSpPr>
          <a:xfrm>
            <a:off x="6748560" y="6119640"/>
            <a:ext cx="1004760" cy="615960"/>
            <a:chOff x="6748560" y="6119640"/>
            <a:chExt cx="1004760" cy="615960"/>
          </a:xfrm>
        </p:grpSpPr>
        <p:pic>
          <p:nvPicPr>
            <p:cNvPr id="139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6748560" y="6119640"/>
              <a:ext cx="1004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810480" y="6157800"/>
              <a:ext cx="8856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Рисунок 7" descr=""/>
          <p:cNvPicPr/>
          <p:nvPr/>
        </p:nvPicPr>
        <p:blipFill>
          <a:blip r:embed="rId5"/>
          <a:stretch/>
        </p:blipFill>
        <p:spPr>
          <a:xfrm>
            <a:off x="228600" y="3570120"/>
            <a:ext cx="2448000" cy="25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5823000" y="4915080"/>
            <a:ext cx="4204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26"/>
          <p:cNvSpPr/>
          <p:nvPr/>
        </p:nvSpPr>
        <p:spPr>
          <a:xfrm>
            <a:off x="457200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4"/>
          <p:cNvSpPr/>
          <p:nvPr/>
        </p:nvSpPr>
        <p:spPr>
          <a:xfrm>
            <a:off x="498168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9"/>
          <p:cNvSpPr/>
          <p:nvPr/>
        </p:nvSpPr>
        <p:spPr>
          <a:xfrm>
            <a:off x="6243480" y="4915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 пеньке сидят брати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се - в веснушках шалуни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ти дружные ребя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зываются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635280" y="4078440"/>
            <a:ext cx="438120" cy="3283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3427560" y="379404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Управляющая кнопка: далее 5"/>
          <p:cNvGrpSpPr/>
          <p:nvPr/>
        </p:nvGrpSpPr>
        <p:grpSpPr>
          <a:xfrm>
            <a:off x="6486480" y="6066000"/>
            <a:ext cx="1054080" cy="633240"/>
            <a:chOff x="6486480" y="6066000"/>
            <a:chExt cx="1054080" cy="633240"/>
          </a:xfrm>
        </p:grpSpPr>
        <p:pic>
          <p:nvPicPr>
            <p:cNvPr id="178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86480" y="6066000"/>
              <a:ext cx="1054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546960" y="6102360"/>
              <a:ext cx="9381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Рисунок 6" descr=""/>
          <p:cNvPicPr/>
          <p:nvPr/>
        </p:nvPicPr>
        <p:blipFill>
          <a:blip r:embed="rId4"/>
          <a:stretch/>
        </p:blipFill>
        <p:spPr>
          <a:xfrm>
            <a:off x="250920" y="3492360"/>
            <a:ext cx="2517840" cy="2711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"/>
          <p:cNvPicPr/>
          <p:nvPr/>
        </p:nvPicPr>
        <p:blipFill>
          <a:blip r:embed="rId5"/>
          <a:stretch/>
        </p:blipFill>
        <p:spPr>
          <a:xfrm>
            <a:off x="433440" y="476280"/>
            <a:ext cx="35892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5400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26"/>
          <p:cNvSpPr/>
          <p:nvPr/>
        </p:nvSpPr>
        <p:spPr>
          <a:xfrm>
            <a:off x="4589640" y="4017960"/>
            <a:ext cx="42192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1"/>
          <p:cNvSpPr/>
          <p:nvPr/>
        </p:nvSpPr>
        <p:spPr>
          <a:xfrm>
            <a:off x="623556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3"/>
          <p:cNvSpPr/>
          <p:nvPr/>
        </p:nvSpPr>
        <p:spPr>
          <a:xfrm>
            <a:off x="457200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4"/>
          <p:cNvSpPr/>
          <p:nvPr/>
        </p:nvSpPr>
        <p:spPr>
          <a:xfrm>
            <a:off x="5815080" y="4906800"/>
            <a:ext cx="4204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39"/>
          <p:cNvSpPr/>
          <p:nvPr/>
        </p:nvSpPr>
        <p:spPr>
          <a:xfrm>
            <a:off x="499428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тоят они в лесоч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 оранжевых носочк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илые сестрич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мя им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236760" y="4978440"/>
            <a:ext cx="438480" cy="328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3274200" y="46101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Управляющая кнопка: далее 2"/>
          <p:cNvGrpSpPr/>
          <p:nvPr/>
        </p:nvGrpSpPr>
        <p:grpSpPr>
          <a:xfrm>
            <a:off x="6802560" y="6022800"/>
            <a:ext cx="950760" cy="627120"/>
            <a:chOff x="6802560" y="6022800"/>
            <a:chExt cx="950760" cy="627120"/>
          </a:xfrm>
        </p:grpSpPr>
        <p:pic>
          <p:nvPicPr>
            <p:cNvPr id="218" name="Управляющая кнопка: далее 2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802560" y="6022800"/>
              <a:ext cx="9507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61240" y="6058080"/>
              <a:ext cx="8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0" name="Рисунок 6" descr=""/>
          <p:cNvPicPr/>
          <p:nvPr/>
        </p:nvPicPr>
        <p:blipFill>
          <a:blip r:embed="rId4"/>
          <a:stretch/>
        </p:blipFill>
        <p:spPr>
          <a:xfrm>
            <a:off x="272880" y="3573360"/>
            <a:ext cx="2424240" cy="25876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8" descr=""/>
          <p:cNvPicPr/>
          <p:nvPr/>
        </p:nvPicPr>
        <p:blipFill>
          <a:blip r:embed="rId5"/>
          <a:stretch/>
        </p:blipFill>
        <p:spPr>
          <a:xfrm>
            <a:off x="395280" y="476280"/>
            <a:ext cx="354348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7"/>
          <p:cNvSpPr/>
          <p:nvPr/>
        </p:nvSpPr>
        <p:spPr>
          <a:xfrm>
            <a:off x="7907400" y="249228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35"/>
          <p:cNvSpPr/>
          <p:nvPr/>
        </p:nvSpPr>
        <p:spPr>
          <a:xfrm>
            <a:off x="7912080" y="1798560"/>
            <a:ext cx="422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50"/>
          <p:cNvSpPr/>
          <p:nvPr/>
        </p:nvSpPr>
        <p:spPr>
          <a:xfrm>
            <a:off x="7912080" y="1379520"/>
            <a:ext cx="42228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9"/>
          <p:cNvSpPr/>
          <p:nvPr/>
        </p:nvSpPr>
        <p:spPr>
          <a:xfrm>
            <a:off x="7068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14"/>
          <p:cNvSpPr/>
          <p:nvPr/>
        </p:nvSpPr>
        <p:spPr>
          <a:xfrm>
            <a:off x="583884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16"/>
          <p:cNvSpPr/>
          <p:nvPr/>
        </p:nvSpPr>
        <p:spPr>
          <a:xfrm>
            <a:off x="5823000" y="4915080"/>
            <a:ext cx="4204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18"/>
          <p:cNvSpPr/>
          <p:nvPr/>
        </p:nvSpPr>
        <p:spPr>
          <a:xfrm>
            <a:off x="372744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74851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рямоугольник 22"/>
          <p:cNvSpPr/>
          <p:nvPr/>
        </p:nvSpPr>
        <p:spPr>
          <a:xfrm>
            <a:off x="4149720" y="357012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рямоугольник 23"/>
          <p:cNvSpPr/>
          <p:nvPr/>
        </p:nvSpPr>
        <p:spPr>
          <a:xfrm>
            <a:off x="4149720" y="446580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4"/>
          <p:cNvSpPr/>
          <p:nvPr/>
        </p:nvSpPr>
        <p:spPr>
          <a:xfrm>
            <a:off x="5416560" y="401796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5"/>
          <p:cNvSpPr/>
          <p:nvPr/>
        </p:nvSpPr>
        <p:spPr>
          <a:xfrm>
            <a:off x="499428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26"/>
          <p:cNvSpPr/>
          <p:nvPr/>
        </p:nvSpPr>
        <p:spPr>
          <a:xfrm>
            <a:off x="4589640" y="4017960"/>
            <a:ext cx="42192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27"/>
          <p:cNvSpPr/>
          <p:nvPr/>
        </p:nvSpPr>
        <p:spPr>
          <a:xfrm>
            <a:off x="4149720" y="5357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8"/>
          <p:cNvSpPr/>
          <p:nvPr/>
        </p:nvSpPr>
        <p:spPr>
          <a:xfrm>
            <a:off x="4149720" y="401796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9"/>
          <p:cNvSpPr/>
          <p:nvPr/>
        </p:nvSpPr>
        <p:spPr>
          <a:xfrm>
            <a:off x="4149720" y="4906800"/>
            <a:ext cx="422280" cy="44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31"/>
          <p:cNvSpPr/>
          <p:nvPr/>
        </p:nvSpPr>
        <p:spPr>
          <a:xfrm>
            <a:off x="53928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Прямоугольник 33"/>
          <p:cNvSpPr/>
          <p:nvPr/>
        </p:nvSpPr>
        <p:spPr>
          <a:xfrm>
            <a:off x="4572000" y="4911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34"/>
          <p:cNvSpPr/>
          <p:nvPr/>
        </p:nvSpPr>
        <p:spPr>
          <a:xfrm>
            <a:off x="4994280" y="491976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36"/>
          <p:cNvSpPr/>
          <p:nvPr/>
        </p:nvSpPr>
        <p:spPr>
          <a:xfrm>
            <a:off x="7907400" y="26780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7907400" y="223056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6243480" y="4915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40"/>
          <p:cNvSpPr/>
          <p:nvPr/>
        </p:nvSpPr>
        <p:spPr>
          <a:xfrm>
            <a:off x="790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49"/>
          <p:cNvSpPr/>
          <p:nvPr/>
        </p:nvSpPr>
        <p:spPr>
          <a:xfrm>
            <a:off x="583740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54"/>
          <p:cNvSpPr/>
          <p:nvPr/>
        </p:nvSpPr>
        <p:spPr>
          <a:xfrm>
            <a:off x="54165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Прямоугольник 55"/>
          <p:cNvSpPr/>
          <p:nvPr/>
        </p:nvSpPr>
        <p:spPr>
          <a:xfrm>
            <a:off x="668196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Прямоугольник 58"/>
          <p:cNvSpPr/>
          <p:nvPr/>
        </p:nvSpPr>
        <p:spPr>
          <a:xfrm>
            <a:off x="6259680" y="31258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62"/>
          <p:cNvSpPr/>
          <p:nvPr/>
        </p:nvSpPr>
        <p:spPr>
          <a:xfrm>
            <a:off x="499428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41"/>
          <p:cNvSpPr/>
          <p:nvPr/>
        </p:nvSpPr>
        <p:spPr>
          <a:xfrm>
            <a:off x="4572000" y="3125880"/>
            <a:ext cx="422280" cy="44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43"/>
          <p:cNvSpPr/>
          <p:nvPr/>
        </p:nvSpPr>
        <p:spPr>
          <a:xfrm>
            <a:off x="4149720" y="267984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44"/>
          <p:cNvSpPr/>
          <p:nvPr/>
        </p:nvSpPr>
        <p:spPr>
          <a:xfrm>
            <a:off x="4149720" y="3124080"/>
            <a:ext cx="42228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45"/>
          <p:cNvSpPr/>
          <p:nvPr/>
        </p:nvSpPr>
        <p:spPr>
          <a:xfrm>
            <a:off x="3728880" y="3125880"/>
            <a:ext cx="420840" cy="44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Блок-схема: альтернативный процесс 1"/>
          <p:cNvSpPr/>
          <p:nvPr/>
        </p:nvSpPr>
        <p:spPr>
          <a:xfrm>
            <a:off x="490680" y="620640"/>
            <a:ext cx="5324400" cy="1871640"/>
          </a:xfrm>
          <a:prstGeom prst="flowChartAlternateProcess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н живет под елка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крытый их игол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ного у него братиш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Рыжий гриб зовется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7945560" y="754200"/>
            <a:ext cx="371520" cy="495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 flipH="1">
            <a:off x="2770920" y="446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7624080" y="730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Управляющая кнопка: далее 5"/>
          <p:cNvGrpSpPr/>
          <p:nvPr/>
        </p:nvGrpSpPr>
        <p:grpSpPr>
          <a:xfrm>
            <a:off x="6626160" y="6022800"/>
            <a:ext cx="951120" cy="627120"/>
            <a:chOff x="6626160" y="6022800"/>
            <a:chExt cx="951120" cy="627120"/>
          </a:xfrm>
        </p:grpSpPr>
        <p:pic>
          <p:nvPicPr>
            <p:cNvPr id="25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626160" y="6022800"/>
              <a:ext cx="95112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688080" y="6058080"/>
              <a:ext cx="8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Рисунок 6" descr=""/>
          <p:cNvPicPr/>
          <p:nvPr/>
        </p:nvPicPr>
        <p:blipFill>
          <a:blip r:embed="rId4"/>
          <a:stretch/>
        </p:blipFill>
        <p:spPr>
          <a:xfrm>
            <a:off x="255600" y="3570120"/>
            <a:ext cx="2371680" cy="26020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7" descr=""/>
          <p:cNvPicPr/>
          <p:nvPr/>
        </p:nvPicPr>
        <p:blipFill>
          <a:blip r:embed="rId5"/>
          <a:stretch/>
        </p:blipFill>
        <p:spPr>
          <a:xfrm>
            <a:off x="395280" y="420840"/>
            <a:ext cx="3543480" cy="25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Управляющая кнопка: возврат 4"/>
          <p:cNvGrpSpPr/>
          <p:nvPr/>
        </p:nvGrpSpPr>
        <p:grpSpPr>
          <a:xfrm>
            <a:off x="6742080" y="5840280"/>
            <a:ext cx="981000" cy="633600"/>
            <a:chOff x="6742080" y="5840280"/>
            <a:chExt cx="981000" cy="633600"/>
          </a:xfrm>
        </p:grpSpPr>
        <p:pic>
          <p:nvPicPr>
            <p:cNvPr id="264" name="Управляющая кнопка: возврат 4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6742080" y="5840280"/>
              <a:ext cx="9810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804000" y="5877000"/>
              <a:ext cx="86364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6" name="Рисунок 5" descr=""/>
          <p:cNvPicPr/>
          <p:nvPr/>
        </p:nvPicPr>
        <p:blipFill>
          <a:blip r:embed="rId3"/>
          <a:stretch/>
        </p:blipFill>
        <p:spPr>
          <a:xfrm>
            <a:off x="374760" y="1104840"/>
            <a:ext cx="2660400" cy="29084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ая прямоугольная выноска 7"/>
          <p:cNvSpPr/>
          <p:nvPr/>
        </p:nvSpPr>
        <p:spPr>
          <a:xfrm>
            <a:off x="4140360" y="2276640"/>
            <a:ext cx="3816360" cy="2160360"/>
          </a:xfrm>
          <a:prstGeom prst="wedgeRoundRectCallout">
            <a:avLst>
              <a:gd name="adj1" fmla="val -102671"/>
              <a:gd name="adj2" fmla="val -42254"/>
              <a:gd name="adj3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олодцы, ребят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риходите в лес за гриба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4"/>
          <p:cNvSpPr/>
          <p:nvPr/>
        </p:nvSpPr>
        <p:spPr>
          <a:xfrm>
            <a:off x="111600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784880" y="105264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нтернет- ресур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Управляющая кнопка: назад 1"/>
          <p:cNvGrpSpPr/>
          <p:nvPr/>
        </p:nvGrpSpPr>
        <p:grpSpPr>
          <a:xfrm>
            <a:off x="6815160" y="5931000"/>
            <a:ext cx="907920" cy="628560"/>
            <a:chOff x="6815160" y="5931000"/>
            <a:chExt cx="907920" cy="628560"/>
          </a:xfrm>
        </p:grpSpPr>
        <p:pic>
          <p:nvPicPr>
            <p:cNvPr id="271" name="Управляющая кнопка: назад 1" descr="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6815160" y="5931000"/>
              <a:ext cx="9079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875640" y="59659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Прямоугольник 3"/>
          <p:cNvSpPr/>
          <p:nvPr/>
        </p:nvSpPr>
        <p:spPr>
          <a:xfrm>
            <a:off x="1116000" y="157644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i073.radikal.ru/1009/08/2457bc036357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досинов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stihi.ru/pics/2012/11/18/432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боров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interfotki.ru/content/photo/13/86/138616/xuzcai_cont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оп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vitaest-s.ru/wp-content/uploads/2012/07/Lozhnyie-gribyi1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лиси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s019.radikal.ru/i622/1206/0a/ce7483021053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-рыж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metod-sunduchok.ucoz.ru/_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d/1/37100950.gi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Старичок-Лесович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pedsovet.su/load/321-1-0-3753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шаблон 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zagadochki.ru/zagadki-pro-podosinovik-s-otvetami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загадки про гриб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0:24:40Z</dcterms:created>
  <dc:creator>Denis</dc:creator>
  <dc:description/>
  <dc:language>en-US</dc:language>
  <cp:lastModifiedBy>User</cp:lastModifiedBy>
  <dcterms:modified xsi:type="dcterms:W3CDTF">2015-01-04T13:11:43Z</dcterms:modified>
  <cp:revision>62</cp:revision>
  <dc:subject/>
  <dc:title>Презентация PowerPoint</dc:title>
</cp:coreProperties>
</file>